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46D4-AD64-4198-8AF9-AC1106D67B34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6F2A-40EB-4AF0-BC41-FF8EB560950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B47C-5D9A-4F80-98FF-CA8F816BE00F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A7B7-39B9-4075-9052-6BED6864614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6431-414E-4A6C-B49E-8B0D98E4BFB9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977A-DC50-4371-AF36-71FB929DCFE1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9246-E810-4D0A-942E-030CAC7A825E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5004-C870-4BB6-ADFA-06D6E677539E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FDB9-D1FF-4874-8D74-D85FF6CA6AD3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C4EE-7F49-42E5-BE4B-B619831145C8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FB2B-8082-4D52-A34E-691DA206A550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EF3-83B0-46F4-B56C-C544A98F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541E-04FA-46FB-8234-D3557CBA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4A29-8C1A-4F0D-A138-84F42F2F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9A4D-C7A5-4AB7-99B8-59EA49DF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C948-6D16-4105-9970-F7C50299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4E5B-397A-44BE-B50A-DF85D030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59BE-3F19-4CB7-8F60-7D94E809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11E-8168-4195-8909-664637D5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38BA-D84B-4CDB-B467-79F719C0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5590-F9C9-4253-98A8-7DAEAB78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5DBD-503A-4630-9554-8A9AA6EC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BF83-24BB-485F-A692-1C94BD7C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0F98-A2B9-48FA-9C52-49F7E9993997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Çenesini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tutsun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artık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Affedelim birbirimiz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Öğrenciler her gün mutlaka kitap okumalı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Bahçeden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acı biberleri toplasa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Kendime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yeni kitaplar almalıyı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Yarın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ödevimi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getireyi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Geziye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fotoğraf makinesi de getirsi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Tahoma"/>
                <a:ea typeface="Tahoma"/>
              </a:rPr>
              <a:t>Gazeteyi masaya bıraksam.</a:t>
            </a:r>
            <a:br>
              <a:rPr sz="4400"/>
            </a:br>
            <a:br>
              <a:rPr sz="4400"/>
            </a:br>
            <a:r>
              <a:rPr b="1" lang="tr-TR" sz="4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r-TR" sz="4400" spc="-1" strike="noStrike">
                <a:solidFill>
                  <a:srgbClr val="ff0000"/>
                </a:solidFill>
                <a:latin typeface="Tahoma"/>
                <a:ea typeface="Tahoma"/>
              </a:rPr>
              <a:t>Kınalar yakalım elimize.</a:t>
            </a:r>
            <a:br>
              <a:rPr sz="4400"/>
            </a:br>
            <a:br>
              <a:rPr sz="4400"/>
            </a:br>
            <a:r>
              <a:rPr b="1" lang="tr-TR" sz="4400" spc="-1" strike="noStrike">
                <a:solidFill>
                  <a:srgbClr val="000000"/>
                </a:solidFill>
                <a:latin typeface="Tahoma"/>
                <a:ea typeface="Tahoma"/>
              </a:rPr>
              <a:t>Karşımızdaki insanı sevmeliyiz.</a:t>
            </a:r>
            <a:br>
              <a:rPr sz="4400"/>
            </a:br>
            <a:br>
              <a:rPr sz="4400"/>
            </a:br>
            <a:r>
              <a:rPr b="1" lang="tr-TR" sz="4400" spc="-1" strike="noStrike">
                <a:solidFill>
                  <a:srgbClr val="ff0000"/>
                </a:solidFill>
                <a:latin typeface="Tahoma"/>
                <a:ea typeface="Tahoma"/>
              </a:rPr>
              <a:t>Garipleri giydir, ipek şal ile.</a:t>
            </a:r>
            <a:br>
              <a:rPr sz="4400"/>
            </a:br>
            <a:br>
              <a:rPr sz="4400"/>
            </a:br>
            <a:r>
              <a:rPr b="1" lang="tr-TR" sz="4400" spc="-1" strike="noStrike">
                <a:solidFill>
                  <a:srgbClr val="000000"/>
                </a:solidFill>
                <a:latin typeface="Tahoma"/>
                <a:ea typeface="Tahoma"/>
              </a:rPr>
              <a:t>Kalemini dikkatli kullans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ff0000"/>
                </a:solidFill>
                <a:latin typeface="Tahoma"/>
                <a:ea typeface="Tahoma"/>
              </a:rPr>
              <a:t>Eline </a:t>
            </a:r>
            <a:br>
              <a:rPr sz="7200"/>
            </a:br>
            <a:r>
              <a:rPr b="1" lang="tr-TR" sz="7200" spc="-1" strike="noStrike">
                <a:solidFill>
                  <a:srgbClr val="ff0000"/>
                </a:solidFill>
                <a:latin typeface="Tahoma"/>
                <a:ea typeface="Tahoma"/>
              </a:rPr>
              <a:t>geçen </a:t>
            </a:r>
            <a:br>
              <a:rPr sz="7200"/>
            </a:br>
            <a:r>
              <a:rPr b="1" lang="tr-TR" sz="7200" spc="-1" strike="noStrike">
                <a:solidFill>
                  <a:srgbClr val="ff0000"/>
                </a:solidFill>
                <a:latin typeface="Tahoma"/>
                <a:ea typeface="Tahoma"/>
              </a:rPr>
              <a:t>fırsatları değerlendirmeli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Tahoma"/>
                <a:ea typeface="Tahoma"/>
              </a:rPr>
              <a:t>Nehrin </a:t>
            </a:r>
            <a:br>
              <a:rPr sz="7200"/>
            </a:br>
            <a:r>
              <a:rPr b="1" lang="tr-TR" sz="7200" spc="-1" strike="noStrike">
                <a:solidFill>
                  <a:srgbClr val="000000"/>
                </a:solidFill>
                <a:latin typeface="Tahoma"/>
                <a:ea typeface="Tahoma"/>
              </a:rPr>
              <a:t>karşı </a:t>
            </a:r>
            <a:br>
              <a:rPr sz="7200"/>
            </a:br>
            <a:r>
              <a:rPr b="1" lang="tr-TR" sz="7200" spc="-1" strike="noStrike">
                <a:solidFill>
                  <a:srgbClr val="000000"/>
                </a:solidFill>
                <a:latin typeface="Tahoma"/>
                <a:ea typeface="Tahoma"/>
              </a:rPr>
              <a:t>kıyısına </a:t>
            </a:r>
            <a:br>
              <a:rPr sz="7200"/>
            </a:br>
            <a:r>
              <a:rPr b="1" lang="tr-TR" sz="7200" spc="-1" strike="noStrike">
                <a:solidFill>
                  <a:srgbClr val="000000"/>
                </a:solidFill>
                <a:latin typeface="Tahoma"/>
                <a:ea typeface="Tahoma"/>
              </a:rPr>
              <a:t>geçelim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Çenesini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tutsa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artık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Aşını, eşini,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işini bil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Garipleri giydirelim,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ipek şal ile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Uyarı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işaretlerine dikkat etse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Dolanmalıyız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yurdun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dört bir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yanını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Bir avuç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toprak için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yor kendin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6T20:20:47Z</dcterms:modified>
  <cp:revision>108</cp:revision>
  <dc:subject/>
  <dc:title>KONU 1</dc:title>
</cp:coreProperties>
</file>